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670F-84EC-475F-861F-8ED4DA12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3ECF-05F2-4A5F-B8ED-9BB9E7FE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2475-9641-4014-BD07-8DF5ABCC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A908-C293-4823-9494-9363119A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AEF3-D701-48F9-A30A-48DCDAED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877-853D-4D3F-AB7F-07837D6D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B671-012F-4C58-9C95-366B1D55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D822-713B-4E73-89ED-EBD4BB36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0A9A-B3E2-4831-801A-4CC87B90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A4D3-BAD5-448E-8554-3C3459E8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F53-5E9A-43F6-B94B-5100DA6C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F65E-797E-4FC3-98F4-B377B2F4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AAD5-9B22-4172-AB8E-61280DDCD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65 Hoc hriešny s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hriešny s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ieť smiem tvoj krí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viere, že mi odpustí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a všetkých vín ma pozbaví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vätý Boží Baráno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hriešny som, ty, presvätý, mi z lásky ideš v ústret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 veľkej svojej dobrot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 prijmeš, Boží Baráno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hriechom sveta znave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búrnym prúdom tiesn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mi spása pram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z teba, Boží Baráno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biedny s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o dúfať chc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v tvoju milosť veriť sm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tebe svetlo sveta zr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lávny Boží Baráno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hriešny som, ty pri mne stoj, stíš duše mojej nepok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, nech som navždy t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vätý Boží Baránok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2T12:08:06Z</dcterms:modified>
  <cp:revision>20</cp:revision>
  <dc:subject/>
  <dc:title>Je veľký náš Pán, on slávy je Kráľ Nech do všetkých strán  spev vrúcnych znie chvál.</dc:title>
</cp:coreProperties>
</file>